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F6E-6320-4427-8B67-390737C0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D3D-70E6-4254-BD37-6C3F158F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35A24-74BE-4649-9F4E-3EBE07A7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8EDF3-F338-4305-BE0B-50E48FC9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21400-2E0A-4F6C-9E1B-BBED6C7C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B11FA-6818-47AD-B80B-417BBB42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D89E9-127E-4A70-9CD1-8E151494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E2E41-68C6-4F6D-A236-7BD49411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A99E4-3E49-4C75-8829-9A71789F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44FFA-7430-4975-B2E9-2EAD1A76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23233-FD7E-48D7-ADB9-5A36FD5A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D292A-B7A6-4304-9A16-886EEDA2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E7D-D223-442E-8CCE-41D9C428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2BA02-5D40-4908-8F4A-D4D9C3B7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252AB-2865-4E48-89E4-0E89D9C5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4B510-D989-46D4-ADE0-B1C46B45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5481E-D711-4B48-9D42-8259531F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FA964-2A87-4355-A948-C70A4FB0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DBA44-F4E5-42DF-8C33-7DA835A6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51623-B4B2-484A-97D7-0378D062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FE57B-3D3F-4EE4-909F-9DF3317E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4A15A-AD11-4770-ACC5-0DD0DDB4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976D3-ECAC-4989-987C-E644D6B6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ABB-101A-4798-86F0-64BC2ADC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3C52D-933A-4100-A9B1-065C2984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660FD-2BA4-44CC-85CE-56401F4A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6EF97-6B12-492E-A30F-DB4E3385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6AD31-2DF3-465E-8EFE-A6B0B690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C04B0-6F61-4FF5-8D66-74B37CBE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DA1FE-6E09-4266-9F08-BDD03D7F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FD960-EB65-4922-8198-EA287DD0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6EBEA-8E42-4A59-9519-81C03457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D64CB-0080-4E3B-A066-412FD1BB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8570F-6350-4E52-9ECF-07F60FE2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5F20-8FC9-47EB-B5C3-0E6434B0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12BA1-AD79-4B98-A7B9-1C43FE5B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344FE-A954-4965-A1A8-D5519630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5A272-E453-453D-AC30-CA34C310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655C4-6A6D-439A-9A60-588ED822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48586-224C-4D56-9C6B-B8AF3620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D3F4D-7994-4530-BF98-632DBF2E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2A73B-F96D-4C96-868C-78978659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020C3-DB29-4790-A7DB-100C21F8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4E586-B94A-4716-A575-D23EC056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36718-4203-48A2-876D-EA9F060F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6526-DED5-46EF-94C0-09BF5121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6B83E-62A6-418B-BC52-77B9388E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3E685-6DFF-4677-978F-DFC5BE34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E7591-2983-45AE-BBA8-E07A90F6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F827E-74F6-40AB-A397-D4398FA5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0C7D3-52B9-45B2-B90B-CACB7C3D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1E1FE-454E-4DD6-B4DF-B92A3BBA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226A9-6EF3-46B3-95B9-2A95BD87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FD7BF-B1AB-4181-A696-A2917A71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C2BDA-0997-44D7-9CDD-329BDBA0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B9552-8EBC-4163-BEBB-E3660EB5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C1C0-75F3-4BA9-831C-3D68A36B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64DB0-C832-4CC2-955C-54B6EA5E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5DEB6-B269-4C78-8039-BFCAC7A2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28657-4E77-48C4-9438-2D30C826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D03B0-B269-47E4-9AD3-891438FB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A2CC8-0DCF-4605-9FCD-DD44427C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4A2B1-B35F-4760-98EE-B8DF5796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2742E-4726-4FB6-9B98-6DD0EFB7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2902C-4D76-43D7-8413-C577F65A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1BB188-6E8A-42A0-BF39-701B0699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FAA57-3723-4153-ADE0-5EB574CC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55B2-5042-4296-914C-AEA3BD9C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9AB825-8591-4CB1-8669-D45831F3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13638C-577D-44D5-832B-AAA5CCA6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7EECC-F502-4844-BB06-9EE463EA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82C2C-254D-4B4B-812B-1E4B2521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114DC7-9BD0-47C4-8817-68425668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E56C0-6C0E-4CD7-9B44-AC0D1A97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A4FEB-46AE-4970-98AA-B024CBD2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EABFA-19B0-4781-BA8F-23CA57DC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1FDF2A-7547-4F42-B573-71019304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1EB03B-5255-4B3E-AA3B-E2371A71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EC56-7833-47B9-A222-D994928B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11CE7-83FA-435F-B632-493FDE8F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50673E-326F-4EB0-ABD4-C5C0857E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5275A-2D0B-46E1-9D84-5A983704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E70CE6-9BB6-4198-ABEC-C759F663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88D7A-7B81-4657-A658-ABAB975C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58CEA-083F-4F47-8D84-FF5CD8C8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1A761-FCE3-4363-92B7-1645D1D7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52F070-1B65-4A1C-9794-A6D28535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28AA07-AD46-4024-A8CD-A52D8300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CBCBF-8F57-4316-BECE-77A42C56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58D6-3E8C-48C3-9845-9F494AC4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CE43DF-BFCD-4486-B8CD-60243BF9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25C6C-FE50-42EB-A557-9E8BE551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980F5C-A271-4BE0-BECC-BC55F41D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CE3A9-65AF-4EE2-B1B0-72C5ED61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D8B514-6CFE-45CF-83FA-6996392B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0F432-1967-4B55-856C-3A096EB5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75848-D74E-4A74-81DD-3B89F732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2C6F5-86CC-44F4-B640-F57F4330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E5232D-CE4B-4DD9-8ABC-A5FCD568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1870BC-03F3-4457-B483-D10FFEA7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D106-5EAB-4D7A-B4CA-07578C53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731B74-C0FA-4C98-8F86-F101E5A6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8D7556-4452-4220-A3B0-1FF9DCF3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E4622-9AE7-4472-9388-37BBADAF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F3CDD9-00E1-4915-8498-0E6ABF5F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FE335A-0384-4A46-A60F-58889205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406ED-FE4E-4EE0-85CB-0339FDB2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4EE7FE-13FE-4277-970E-C6ECE1C8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E93B7F-301B-4473-9AEF-076E8359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60C128-DCCC-4DDF-8114-67165CA6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A7E70F-4D68-4F1B-9DE1-52E1DFBA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5F7-FAED-48BB-83A8-8C857B48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7ECC-87D2-4492-87D3-345CD97F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B281C-D00D-4BE8-BB9E-6BF1BB23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DAF3AD-D8A2-49FD-BA19-6BA27BD2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0D4A4C-D20D-4324-B8C6-3A574A1D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CC732-1A57-4260-A297-01DFD279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20DA21-C57C-4207-ACC2-D5DFE36B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38BDD3-7CF3-4180-80FC-07C8F97A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E6951-01FC-4862-914C-1DC231F6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07BA5C-32A0-4F38-9770-A0996C17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74AB4C-26D8-4B8C-92A6-9601A863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D885E6-C1F6-467E-A69B-F1C27EC3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DA89-4F89-45FD-B3D0-90E92AA5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53E1BE-6F39-49AC-AACD-6678A8BE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87D282-0EE4-415E-A840-9C188961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7AD0C4-0866-4B9E-B0EC-B145DBE6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0C6C8D-2DF3-47D7-8AA6-92EE288B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EECA5-0148-4565-B635-E2436251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8B65EE-488D-4D04-845E-41803A20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9A65D9-511E-435A-95F9-5EFA5DCE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3D0A6B-5D52-4D79-8215-8DD7D8BE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A48F55-1711-49F5-9B9D-32C3382A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050B1E-0F4C-4A1F-B9C8-1C0D8237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E101-5908-47DE-8F6B-A7AAE57E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0B82D7-55BB-4EAA-9212-5E953665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2CA021-3BFE-4C9D-A388-179848F8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8D7924-5CF2-45B1-87F0-65B00900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969DF7-08C5-40DF-A963-61F7D232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82EA04-FCE3-448E-85B5-8B584699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65A75C-B540-4991-99A4-3C4FF2D5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7F38F1-2981-4787-80CB-9FAD8CD9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6222AD-A7B4-4161-8E62-DAE1F688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7CA880-F822-4AF5-8ED2-09FF148A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9EADEB-8345-4966-BBD7-16D181A3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C1E0-0BBC-4E31-87C0-62272B3D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CAF96D-ADD6-4D0E-8252-F919855F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7ABD95-87A2-46DC-980D-E60E37FD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F8FCA4-8743-44C1-ACFF-917E8143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F88FD9-B622-44D1-8202-77DF66D8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676FE0-3C78-4A53-8220-25A22C76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DF56BB-A8A5-49F9-8D48-DCC33D33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104A1A-F939-494F-817D-D786107E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CAEE79-17A5-4E8C-AC9E-BCE7F702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0F1D32-381B-4A6F-89E5-B73891E8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5CCB69-DD08-403B-9BC9-15878E60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0913-FE40-4495-9F63-72A45BF7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8FF6CF-C505-4C0E-86C6-7A234D20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DC1F10-0771-45AF-94C4-37917651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CCEA16-C49F-4FBE-88A0-2109917D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3D12C6-BA96-41CD-BF2A-55011A1F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6BEA3D-8A11-4867-ACC2-A04C0DF4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2FC717-E8BF-4967-BD91-01880A37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69ECE7-D866-41A6-9533-A80A7739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695E8B-E021-4C6F-9573-409A51E6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8544AF-2990-41FE-9FFB-7FCC21CA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2CB7D2-442C-497D-9A4C-8E94325F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C15B8-02ED-4C3D-813C-30C334C2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A066E6-408B-42B7-83F2-53B56D30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20F504-AC06-4B62-BDE3-F01D4B65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3E6DBC-CDAA-4CA3-8FF4-74A0D82C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5F17B9-61C9-49B9-94A7-D0317770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E6FBDE-B911-4E98-8026-0CB7C0F6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398F1B-E4C5-4C18-B7A6-60CB2F3A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F0C3B6-6CCC-47E7-8CC9-F395245A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A063FC-3070-4519-95AC-5DE1F65F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113CAB-9AD2-46C9-9E50-485D6782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B3AD7C-30D4-47A7-9B6F-89C5B6DE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EFC7-2DDC-4EFD-996C-521C115D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43BAAD-796A-41FB-8F4E-3BEBEFEC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F81CCE-C7D7-499E-AC74-27FE70DC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85A470-F62E-4E28-A8BA-E39265D2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8477CB-4A9A-44E9-8A15-BE7BCCE0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521688-6B7A-411B-9F38-96792127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53040-50C1-438D-A4EE-B9F8364E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3C3A-DA79-4133-8DE5-BD07E7E3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C9C3D-56E9-4DA8-B592-267F825F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90C6-B66B-4822-82DA-7EE6CE33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965D9-594E-44E7-BDD2-D10D06D7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44A0-040A-4F0C-9E0B-ECC3E4C6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DA0AD-045D-4B8F-A437-64EDC950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72443-564E-488F-87A0-F109E87A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FFFD-C453-41AE-A92A-F1298BD1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D875-EF6B-4120-BCF5-F7350C20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16113-04F9-4147-943E-E7591AE8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652C4-F3D1-47A7-A7AC-6A2ED10B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F820E-1D69-4EB6-AFAC-A2478703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261F8-790E-487B-A8BE-4A2DA239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805-9C36-4408-A825-EA06BFF7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F8715-CA99-4B6E-9FF2-367395C7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B19AA-1C76-47E2-B83C-8EE69B25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AEB04-8BAE-4EDB-B3E4-BF1CC836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5FE4E-583F-45EC-ADB7-C9572506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567D8-5BEC-41D8-95C0-8130FFDF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D44A9-1705-4DB9-BB9C-A11B960F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A77F-18FF-4A90-9558-4466C5EF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ADB4E-139D-448E-B9FE-177619B5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F9AA3-FB60-4710-A4CD-AB4E75DF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7A409-4A6E-4F91-9EE1-8A6A7F3C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5BA-39E3-400D-A8C2-97EAF3C6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A3803-67F2-4FED-A129-FB99B42A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2025E-BEA4-42EA-AE87-A143DA29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CA12F-60F5-487B-9479-3A5A4EA8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33B18-BD9A-4F95-BF80-7CED9700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F13E6-56EB-4FE6-BCC6-C7964B6F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10552-09B7-408B-8C12-ACA4476F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184CD-1AD0-413B-BE73-C367539E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55C21-43CD-49E2-97E0-8B3DE7D8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6ED34-0123-44B4-80C7-9607A0F8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22B0B-C552-4A83-86F6-B1513EA2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39D-D0AD-494F-BE2A-455599D7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37931-ADC1-444E-A7C3-087570A5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85328-318A-46E8-954E-E3C8EC25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616EF-A454-4686-9A22-330BF4DF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6EF6B-0BF7-4779-AA06-95A606EA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82C86-39D9-4ACC-A089-6B8BC194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F9495-6BA4-4DCA-B222-0BE62631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FAB3E-9C3F-41BE-9E35-E59261E6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61951-4DB9-4FC2-8335-0BBD7A5A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71993-0A68-440B-B361-AB449220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50C25-283D-4338-B7AF-C9738CD3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D169-7E40-45B1-BE02-0F6C2EA3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2BC88-884F-4D51-B954-4451B3CF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9B9CE-2764-47A1-AF78-628E5240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D0456-36FC-4CB2-8037-9EE78012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A860C-C350-4F5A-B925-03BCAC47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25155-EC4F-4243-9ACC-EF370811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5FBEA-C4C4-4E9E-8109-3292ED93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7A054-A515-45D5-9A1B-E57A0BED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072F8-5A5C-439F-BCF3-F1BCC464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B6AD0-0F26-4216-97CC-0729C4DD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F1373-965D-4A5F-A71B-0A1BE53C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E683-DCED-4E6B-9FE7-A2527BA3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89AE8-2A87-4CE9-8053-638EE47D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E8F35-810D-4130-8821-4999B109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9BF3E-B381-44D0-B7D9-F28213DF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E8A46-97C9-4FA8-8BEA-9A8052E6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E092F-B3ED-41F4-8021-E944ED7B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A8CB3-164E-47E5-8449-1E7A1F63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DFA1D-1766-4A2E-9EDC-D11F4221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55F73-58A4-4E37-810F-F7682A20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D2179-B736-402F-B133-96075C03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0CFE9-A055-45E5-AEA4-92737F2C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053-06AF-4BC9-BFD2-E4D7CFBA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5061B-09DD-400E-A7AD-91309817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15262-96EA-41A5-9CDC-F272CADE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FA767-5669-47BD-A0AC-890344E3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26039-6C99-4DF3-BC2D-4952481E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282B5-B7DD-47FB-A792-8B5ECC49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83779-C7EA-4115-A790-652BA307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E09B7-982A-480B-81FF-86ABEEAC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18CB3-9F3C-458B-BFB3-3B5C1F14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834C5-C318-4891-A9A7-4DA5D212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89A72-1709-49BC-98E2-D4F98AD7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1DEF-32E8-4D11-9BBD-50D74F54D3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4E92-F343-41D7-A255-0E32FB58B8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FC8F-92BF-4339-82EE-24046EAD00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3AF5-C8AB-4FD5-B185-2959BC8FA3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69C6-DA10-4406-9355-4BE21D3C0A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DB78-EB72-4B69-A6E2-F23BF8A74E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2B12-90C5-4D39-B8A6-30ADFCF916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33EF-9ADE-4D10-9518-74AE572E1A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2234-A1A4-48DB-AA57-1C6D4364F0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3AF1-1CB3-4230-B5D7-56EC9497B1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4D27-B035-4AD7-8247-DC3A3985ED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308D-9EA9-4EBA-8661-A45C6997FD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0241-1A14-4910-87D8-8C951B9182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95E4-309B-4069-986A-8A7F918846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870-DCC4-4188-B1CD-99AD2E151A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33E2-A8B8-4132-A6D2-9F35EE798F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6C80-8D27-44A7-8EF5-9DEBD2ACDA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B909-C845-424E-AA98-F326942E40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55C9-89D6-47AD-BF29-5934723E99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0281-3877-4A9F-84E5-7908CB9471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F2AA-3B37-4010-8B06-B97C0C2AD1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73A5-853E-475A-8954-4592DD86E2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5412-41A0-4D30-8012-F476A74BAB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FFAA-FFAF-4486-ACAA-75B30901FB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0F60-F4FB-443B-B1F6-741C51C33A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87D0-ACBD-493F-BB6D-78AF2398FC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1B38-332E-40D2-8AC7-AD2527BF62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85FE-B464-4676-A7A5-45512BAF28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B1E3-4517-41E0-954D-AE8EDDF023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2159-9C0C-43F1-8C93-C3BF38950B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7794-667F-4126-AB53-5B83217DC9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DB1C-72E9-4BB1-B601-7DDFDF15D3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5434-5136-4802-8BB2-F6E35F49D7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DB8A-4B92-4B77-BDD8-D1EBA1578B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4540-56B5-422D-8129-40C980CA55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7808-6F5B-4944-A10A-05B6850138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590D-0A2D-4C8C-B435-5E8BAACA20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6015-BDD0-4C94-AE42-8121F71208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C0C4-8476-4D3C-BE27-A63C277122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26DA-1365-41A3-B5DA-493A6A2B01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D4FD-6FE1-44C9-9945-4AC3B6D510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1324080" y="2595600"/>
            <a:ext cx="64958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324000" y="2104920"/>
            <a:ext cx="8496000" cy="26481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2050920" y="43941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3924360" y="43941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5796000" y="44226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7812000" y="439416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7169" descr=""/>
          <p:cNvPicPr/>
          <p:nvPr/>
        </p:nvPicPr>
        <p:blipFill>
          <a:blip r:embed="rId1"/>
          <a:stretch/>
        </p:blipFill>
        <p:spPr>
          <a:xfrm>
            <a:off x="42840" y="966960"/>
            <a:ext cx="9058320" cy="49240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1835280" y="155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234000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5"/>
          <a:stretch/>
        </p:blipFill>
        <p:spPr>
          <a:xfrm>
            <a:off x="370836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6"/>
          <a:stretch/>
        </p:blipFill>
        <p:spPr>
          <a:xfrm>
            <a:off x="4629240" y="155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7"/>
          <a:stretch/>
        </p:blipFill>
        <p:spPr>
          <a:xfrm>
            <a:off x="507672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8"/>
          <a:stretch/>
        </p:blipFill>
        <p:spPr>
          <a:xfrm>
            <a:off x="624204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9"/>
          <a:stretch/>
        </p:blipFill>
        <p:spPr>
          <a:xfrm>
            <a:off x="716436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0"/>
          <a:stretch/>
        </p:blipFill>
        <p:spPr>
          <a:xfrm>
            <a:off x="7596360" y="155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1"/>
          <a:stretch/>
        </p:blipFill>
        <p:spPr>
          <a:xfrm>
            <a:off x="2340000" y="26654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2"/>
          <a:stretch/>
        </p:blipFill>
        <p:spPr>
          <a:xfrm>
            <a:off x="6659640" y="27226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13"/>
          <a:stretch/>
        </p:blipFill>
        <p:spPr>
          <a:xfrm>
            <a:off x="1835280" y="3213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4"/>
          <a:stretch/>
        </p:blipFill>
        <p:spPr>
          <a:xfrm>
            <a:off x="3132000" y="31561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5"/>
          <a:stretch/>
        </p:blipFill>
        <p:spPr>
          <a:xfrm>
            <a:off x="5651640" y="31701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6"/>
          <a:stretch/>
        </p:blipFill>
        <p:spPr>
          <a:xfrm>
            <a:off x="3924360" y="35877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17"/>
          <a:stretch/>
        </p:blipFill>
        <p:spPr>
          <a:xfrm>
            <a:off x="2195640" y="39481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18"/>
          <a:stretch/>
        </p:blipFill>
        <p:spPr>
          <a:xfrm>
            <a:off x="3851280" y="3933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9"/>
          <a:stretch/>
        </p:blipFill>
        <p:spPr>
          <a:xfrm>
            <a:off x="6588000" y="3933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20"/>
          <a:stretch/>
        </p:blipFill>
        <p:spPr>
          <a:xfrm>
            <a:off x="3059280" y="4292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21"/>
          <a:stretch/>
        </p:blipFill>
        <p:spPr>
          <a:xfrm>
            <a:off x="5651640" y="4292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22"/>
          <a:stretch/>
        </p:blipFill>
        <p:spPr>
          <a:xfrm>
            <a:off x="3564000" y="46386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23"/>
          <a:stretch/>
        </p:blipFill>
        <p:spPr>
          <a:xfrm>
            <a:off x="4788000" y="4653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24"/>
          <a:stretch/>
        </p:blipFill>
        <p:spPr>
          <a:xfrm>
            <a:off x="1476360" y="55515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25"/>
          <a:stretch/>
        </p:blipFill>
        <p:spPr>
          <a:xfrm>
            <a:off x="2871720" y="55450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26"/>
          <a:stretch/>
        </p:blipFill>
        <p:spPr>
          <a:xfrm>
            <a:off x="3780000" y="55450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27"/>
          <a:stretch/>
        </p:blipFill>
        <p:spPr>
          <a:xfrm>
            <a:off x="5205240" y="555948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28"/>
          <a:stretch/>
        </p:blipFill>
        <p:spPr>
          <a:xfrm>
            <a:off x="6084720" y="5516640"/>
            <a:ext cx="2664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图片 8193" descr=""/>
          <p:cNvPicPr/>
          <p:nvPr/>
        </p:nvPicPr>
        <p:blipFill>
          <a:blip r:embed="rId1"/>
          <a:stretch/>
        </p:blipFill>
        <p:spPr>
          <a:xfrm>
            <a:off x="247680" y="1438200"/>
            <a:ext cx="8648640" cy="398160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2"/>
          <a:stretch/>
        </p:blipFill>
        <p:spPr>
          <a:xfrm>
            <a:off x="4802040" y="2943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3"/>
          <a:stretch/>
        </p:blipFill>
        <p:spPr>
          <a:xfrm>
            <a:off x="7451640" y="3068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4"/>
          <a:stretch/>
        </p:blipFill>
        <p:spPr>
          <a:xfrm>
            <a:off x="4802040" y="35146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5"/>
          <a:stretch/>
        </p:blipFill>
        <p:spPr>
          <a:xfrm>
            <a:off x="7956720" y="35449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6"/>
          <a:stretch/>
        </p:blipFill>
        <p:spPr>
          <a:xfrm>
            <a:off x="1187280" y="4950000"/>
            <a:ext cx="554544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27:0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